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0F05-8A69-4C85-9FFB-7EFB2478471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FE82-DF4E-4FAA-BB7D-0637D5C4E7A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6E62-AA78-4B9F-AF2D-BF8C06CAA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72C2-5E39-439D-8045-56F2B3C5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FB24-CADF-4DD5-B9E6-BF2BF43D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A573-5B54-4AD3-875F-40904D89D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5A05-990E-440D-8E54-07FE9CE5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4B2F-E5AD-4A36-93CB-54118D86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A1B8-BC14-418A-84BC-94E8703C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F682-4239-4CF8-84C8-B5453FBC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A4F7-808B-485A-A2B0-27118398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2AF9-27AF-45F1-8DE9-A1E2E9F8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98E5-4A00-4949-A27A-AAA69B24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74B7-D593-418B-989F-2C915BEF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1FD7-B2CA-4926-9E53-67BEF8032DB4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DFFB-870D-4E41-AD73-05797C4021AF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46D6A6E6-38FA-4760-8815-C48C3C9E2F59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2421000"/>
            <a:ext cx="9372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irst Draft Opinion 05/2014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1:15:45Z</dcterms:modified>
  <cp:revision>586</cp:revision>
  <dc:subject/>
  <dc:title>Présentation PowerPoint</dc:title>
</cp:coreProperties>
</file>