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5AA8-B4D1-4EB2-B424-D48E7B9CD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BD00C-CC65-4AC5-A2D6-4080DDCA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9E4-D6CE-47A5-8A16-E325A9DB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8F6-8E92-442E-9F88-29723F32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42C7-D7A9-4165-BDD3-45D2ACDF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99D-C9CA-4A5D-B280-25AF327F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45DC-DF28-41C2-A940-E1CC2B826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200E-093C-4F9A-B145-2E64BDB6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5741-81BB-4BC1-A8EE-3090C4AB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9F46-193C-40E6-890C-95F0C70A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FCE7-079E-4CAE-A55C-709C97CC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B06C-ACF8-48A6-9F91-F14E0592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30B-ED62-4141-9CEB-10518798A46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nada-bonn.de/" TargetMode="External"/><Relationship Id="rId2" Type="http://schemas.openxmlformats.org/officeDocument/2006/relationships/hyperlink" Target="http://www.nadamed.de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836280"/>
            <a:ext cx="874872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FAI Anti-Doping in Airsports 2013</a:t>
            </a:r>
            <a:br>
              <a:rPr sz="4000"/>
            </a:br>
            <a:br>
              <a:rPr sz="40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Aspects of the WADA Policy</a:t>
            </a:r>
            <a:br>
              <a:rPr sz="2800"/>
            </a:b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-How do I find Info about forbidden medications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99640" y="4508640"/>
            <a:ext cx="7272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Juergen K Knuep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President FAI Medico-Physiological Commis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64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4284720" y="3284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124000" y="981000"/>
            <a:ext cx="48974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3333ff"/>
                </a:solidFill>
                <a:latin typeface="Arial"/>
              </a:rPr>
              <a:t>Comments, Ques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600" spc="-1" strike="noStrike">
                <a:solidFill>
                  <a:srgbClr val="3333ff"/>
                </a:solidFill>
                <a:latin typeface="Arial"/>
              </a:rPr>
              <a:t>?        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161645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4716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Basic WADA Con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S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lympic Committee, UNES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overnments, NADO, Intern. Feder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provide a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Health 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rict Liability RULE 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&gt;&gt;&gt; Athletes, Trainer, Pres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LEGAL IMPLICATIONS: “Club Contract“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national law applied! – CAS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(Abrbitrat. Cou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bserve Principle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not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try to use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common sense 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Read and </a:t>
            </a:r>
            <a:r>
              <a:rPr b="1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understand: WADA CODE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All Sports are treated equally!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57200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MPLIANCE: otherwise no support, no subsidy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 championsh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All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thletes are basically teste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for all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GB" sz="1200" spc="-1" strike="noStrike" u="sng">
                <a:solidFill>
                  <a:srgbClr val="000000"/>
                </a:solidFill>
                <a:uFillTx/>
                <a:latin typeface="Arial"/>
              </a:rPr>
              <a:t>the same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 substa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UT of Compet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TP: Registered Test Pool (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isk Assessment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. Reputation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. Price-Money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3. Known Drug Use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4. Options for Perform. Enha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81468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Basic WADA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3164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 Spor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Doping free 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trict Liability RULE“ 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1600" spc="-1" strike="noStrike">
                <a:solidFill>
                  <a:srgbClr val="000000"/>
                </a:solidFill>
                <a:latin typeface="Arial"/>
              </a:rPr>
              <a:t>(keine Unschuldsvermutung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No national law a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ll Sports are treated eq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51280" y="1628280"/>
            <a:ext cx="439272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thletes are tested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All for the same substance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No Exemptions gran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rinci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ll have to sign “COMPLIANCE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therwise no support, no subsi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inciple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-Competition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OUT of Competition (RTP 1/7/5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TARGET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500"/>
                                        <p:tgtEl>
                                          <p:spTgt spid="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4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4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Points to think ab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thlete´s Intention to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wi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i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Use of options for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increasing pre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ilita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Aviatio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History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Stimul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ttitu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of seniors and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ifferenc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in Sport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(i.e.  Golf vs Cycl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ritique on Web: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Human Rights Iss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WADA System in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ommon Sense“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What to do</a:t>
            </a: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425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M,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Anti Doping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mmiss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(5/electe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ear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Group</a:t>
            </a:r>
            <a:r>
              <a:rPr b="0" lang="de-DE" sz="600" spc="-1" strike="noStrike">
                <a:solidFill>
                  <a:srgbClr val="000000"/>
                </a:solidFill>
                <a:latin typeface="Arial"/>
              </a:rPr>
              <a:t>(3 /lawjer)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-Secretariat &gt;&gt;&gt; </a:t>
            </a:r>
            <a:r>
              <a:rPr b="1" lang="de-DE" sz="900" spc="-1" strike="noStrike">
                <a:solidFill>
                  <a:srgbClr val="000000"/>
                </a:solidFill>
                <a:latin typeface="Arial"/>
              </a:rPr>
              <a:t>ADMIN only</a:t>
            </a:r>
            <a:r>
              <a:rPr b="0" lang="de-DE" sz="9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Nat. Fed. Anti Doping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UE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Pa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AMS 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Cooper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with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N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EB-Info Page (www.WADA.C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3280" y="1628640"/>
            <a:ext cx="431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Fair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Hear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vent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World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roblem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Registered Test P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ot Spots,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Experiences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ssigning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Doping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Money,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ducation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&amp;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ADO Con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 u="sng">
                <a:solidFill>
                  <a:srgbClr val="000000"/>
                </a:solidFill>
                <a:uFillTx/>
                <a:latin typeface="Arial"/>
              </a:rPr>
              <a:t>Strategic Tas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wareness of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Read th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WAD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Elect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competent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Develop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pecific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Federation AD-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suppor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Athle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Improv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At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Informatio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/ Taschenka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Inhaltsplatzhalter 10" descr="NADA TK 2013 b 001.jpg"/>
          <p:cNvPicPr/>
          <p:nvPr/>
        </p:nvPicPr>
        <p:blipFill>
          <a:blip r:embed="rId1"/>
          <a:stretch/>
        </p:blipFill>
        <p:spPr>
          <a:xfrm>
            <a:off x="297000" y="957240"/>
            <a:ext cx="3987720" cy="5567400"/>
          </a:xfrm>
          <a:prstGeom prst="rect">
            <a:avLst/>
          </a:prstGeom>
          <a:ln w="0">
            <a:noFill/>
          </a:ln>
        </p:spPr>
      </p:pic>
      <p:pic>
        <p:nvPicPr>
          <p:cNvPr id="59" name="Inhaltsplatzhalter 11" descr="NADA TK 2013.jpg"/>
          <p:cNvPicPr/>
          <p:nvPr/>
        </p:nvPicPr>
        <p:blipFill>
          <a:blip r:embed="rId2"/>
          <a:stretch/>
        </p:blipFill>
        <p:spPr>
          <a:xfrm>
            <a:off x="4572000" y="936720"/>
            <a:ext cx="4321080" cy="574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11280" y="274680"/>
            <a:ext cx="8075520" cy="993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4000" spc="-1" strike="noStrike" u="sng">
                <a:solidFill>
                  <a:srgbClr val="000000"/>
                </a:solidFill>
                <a:uFillTx/>
                <a:latin typeface="Arial"/>
              </a:rPr>
              <a:t>i.e.: References German NADA </a:t>
            </a:r>
            <a:br>
              <a:rPr sz="4000"/>
            </a:br>
            <a:r>
              <a:rPr b="0" i="1" lang="de-DE" sz="2000" spc="-1" strike="noStrike" u="sng">
                <a:solidFill>
                  <a:srgbClr val="000000"/>
                </a:solidFill>
                <a:uFillTx/>
                <a:latin typeface="Arial"/>
              </a:rPr>
              <a:t>0228 / 812 92  1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Prohibited List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german / englis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nada-bonn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Medication-Data-Bank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–online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nadamed.d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auch Iphone-Ap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EDICARD 2013   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-Taschenka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2T17:48:11Z</dcterms:created>
  <dc:creator>Fustis</dc:creator>
  <dc:description/>
  <dc:language>en-US</dc:language>
  <cp:lastModifiedBy>Fustis</cp:lastModifiedBy>
  <dcterms:modified xsi:type="dcterms:W3CDTF">2014-05-08T09:15:36Z</dcterms:modified>
  <cp:revision>38</cp:revision>
  <dc:subject/>
  <dc:title>World Anti Doping ISSUES  2012</dc:title>
</cp:coreProperties>
</file>