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6EF9-9886-4570-9445-020D1A9AA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658C3-597C-47B7-859F-EEC8F21A9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89539-3562-4D5D-947A-FF884A56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E752F-A956-46F0-A7BD-8EE423A6A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5FF66-0DE7-4C7D-AF2A-EF64EA816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C4C0-A86E-4D55-BC27-17271BCA2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0DBC-A8C7-48EC-A066-B5D2115F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999C-9D60-483B-9983-C933E6F0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3CCC-1BAD-4443-98AC-D221A795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8924-DD12-46A2-8050-C3E7D04C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D342-0E49-4EB7-B9A8-00254CCF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8CE8-9000-4908-BECC-8B2BAC99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E2D95-1237-43AC-995D-1E5B58F1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5AD7-7DD2-4E77-A637-27548D6A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B709-A788-47E2-BA23-221FAE91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CA9E-256C-40DB-A38E-98A73FBA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6FBD-5B04-441A-B689-735D0EC15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48D5-1FD4-46ED-BC1F-12D64BE6D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4F502-0A1A-4D47-98FB-B2827198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A5E0A-B998-49AB-B749-EAE2AAFF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96559-21B8-41EC-B354-5C6C1141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60AE1-B0F5-4635-84E1-D52C03B1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FDF34-0EC3-48EC-A83F-8E66F3E4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7A69D-CDE2-4A84-BC38-4F53CB12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B171E-A64E-4139-8151-27D3E7B7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419D-F78B-498A-A133-6FA4B3A415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3CDE-0630-47EC-AB9E-9005E45147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0000" y="1916280"/>
            <a:ext cx="482436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32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4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75596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,332,756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493,250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3 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100,618 jumps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9,307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              </a:t>
            </a: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53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8218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8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1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4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4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1692360" cy="1039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47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8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during CF open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ow cutaway &amp; Line twists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anopy collision during C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unconscious before AAD fir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Hard 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caught cutaway canopy which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d with jumper’s own mai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Total 4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79311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2% (17) Landing Err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 9) Fast canop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3%  (7) Equipment probl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IE" sz="28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i="1" lang="en-IE" sz="40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024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66% of the 53 fatalities (18 were discounted for this statistic)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1% - 27 of 53 fatalities, occurred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% - 6 of the 53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79% - 42 of the 53 fatalities,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Emphasis on good and thorough initial and ongoing training is probably the only way in which the big numbers of fatalities, especially from canopy handling/landing, may be reduc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4 AAD Report, and Power Point presentations for both reports, has been sent by e-mail to all respondents and to all other countries for which we have e-mail addresses (72 in total)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–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Visiting Jumper Requirements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Chart 2006 – with details of AADs on the marke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Reserve Life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tudent Canopy Loading Gu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Not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55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6-01-16T20:58:31Z</dcterms:modified>
  <cp:revision>33</cp:revision>
  <dc:subject/>
  <dc:title>SAFETY &amp; TRAINING FORUM 25 January 2003</dc:title>
</cp:coreProperties>
</file>