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590EE-EACD-40B9-AA99-DBBFA6AC36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9E60F8-B620-4AC3-A1D0-6123A3A17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EBD858-0117-4DB8-A100-165AA4F14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4DE770-D115-4E53-990E-3D123AE4C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69CF8D-567B-4124-BD8E-165D7AC24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935BC-E2E9-4C00-A69F-850B60862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6385A-D8C9-47CE-A025-EB301DF23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E53F1-C674-401C-BBB0-5FC8A17FA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0283B-937A-4546-A354-90CF484D5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A4212-D16A-4064-A3BA-0B907557B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58B7B-B584-4111-9B39-66F4BCD62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A2FFD-770A-4094-BCAE-C940683DC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05944E-D04F-45B0-B986-751A140C5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DA150-B32A-4762-9E33-81FF65718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36B94-7A00-4A42-9696-F1F917FA8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A5F3B-ACE7-428F-A8BB-15B18B7B2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82031-73A8-461F-9C51-A8522BC6F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7E168-C9A4-4C5F-B63C-E82F82BBA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3A1DC0-3BA3-4FC7-A069-CC770D146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6FBA63-B69F-48A2-9C1A-3A4F0A4AE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FB5B7A-2D81-4863-BFC3-164CADDA2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8F6259-8C8B-44A0-90DF-87033355A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2252EE-10CD-45EF-8476-BB70C7464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345D80-88EF-48DC-A7C3-102BC0947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209B8B-0418-4E9D-9B04-74A85771D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11E66-2D53-49B3-ADF4-1F6FE8D509B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725C2-6B91-418C-9945-869FE4FCAA7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00000" y="620280"/>
            <a:ext cx="77724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e5e5ff"/>
                </a:solidFill>
                <a:latin typeface="Arial"/>
              </a:rPr>
              <a:t>TECHNICAL &amp; SAFETY COMMITTEE</a:t>
            </a:r>
            <a:br>
              <a:rPr sz="3600"/>
            </a:b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99640" y="4941720"/>
            <a:ext cx="75596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International Parachuting Commission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FAI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10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IE" sz="4400" spc="-1" strike="noStrike">
                <a:solidFill>
                  <a:srgbClr val="e5e5ff"/>
                </a:solidFill>
                <a:latin typeface="Arial"/>
              </a:rPr>
              <a:t>2003 Safety Repor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In 39 responding countri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82 people were killed skydiving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6,335,624 skydives were made by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402,513 jumper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1 Fatality per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77,263 jump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4,909 jumper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edge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768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" dur="768" fill="hold"/>
                                        <p:tgtEl>
                                          <p:spTgt spid="10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7" dur="768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9" dur="768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e5e5ff"/>
                </a:solidFill>
                <a:latin typeface="Arial"/>
              </a:rPr>
              <a:t>82 Fatalities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14 Students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(17%)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0-25 Freefall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28 Intermed.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(34%)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26-250 Freefall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40 Experts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(49%)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251 + Freefall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"/>
              </a:rPr>
              <a:t>Total 82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Cutaway/No or low reserve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16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No pull/low pull on main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11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Others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55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"/>
              </a:rPr>
              <a:t>Total 82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edge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768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7" dur="768" fill="hold"/>
                                        <p:tgtEl>
                                          <p:spTgt spid="11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9" dur="768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1" dur="768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e5e5ff"/>
                </a:solidFill>
                <a:latin typeface="Arial"/>
              </a:rPr>
              <a:t>‘</a:t>
            </a:r>
            <a:r>
              <a:rPr b="1" lang="en-IE" sz="3600" spc="-1" strike="noStrike">
                <a:solidFill>
                  <a:srgbClr val="e5e5ff"/>
                </a:solidFill>
                <a:latin typeface="Arial"/>
              </a:rPr>
              <a:t>Other’ Fatalities (55)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61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Landing Errors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Fast Canopies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Freefall Collision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5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Equipment problems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4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Tandem Fatalities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4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Canopy Collision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4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Turn from 800m to ground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Main/Reserve downplane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Heart attack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Jumpers striking aircraft in air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Jumper unconscious, landed on hard surface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Canopy deflated close to ground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Reserve malfunction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Jumper’s feet entangled in lines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Possible suicide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Suspected murder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1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Causes not reported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2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"/>
              </a:rPr>
              <a:t>Total 55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e5e5ff"/>
                </a:solidFill>
                <a:latin typeface="Arial"/>
              </a:rPr>
              <a:t>Fatalities – Largest Group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2405160"/>
            <a:ext cx="8229600" cy="34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18% (15) Landing Error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13% (11) Fast canopi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0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13% (11) Cut-away &amp; low reserve pul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4" marL="199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13% (11) No or low pull on mai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4" marL="199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6%  (5) Freefall collisio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6%  (5) Cut-away and no reserve pull </a:t>
            </a:r>
            <a:r>
              <a:rPr b="0" lang="en-IE" sz="24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i="1" lang="en-IE" sz="4800" spc="-1" strike="noStrike">
                <a:solidFill>
                  <a:srgbClr val="e5e5ff"/>
                </a:solidFill>
                <a:latin typeface="Arial"/>
              </a:rPr>
              <a:t>Some Significant Figures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79% of 65 fatalities (17 were discounted for this statistic) occurred with the parachutist having at least one good parachute on his/her back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39% of 82 fatalities occurred after the successful deployment of the main parachute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20% of fatalities (16) might have been avoided by AAD use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800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77% of fatalities (63) appear to have been caused by human error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800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80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"/>
              </a:rPr>
              <a:t>2 of the 82 Fatalities were First Jump Students (1 Solo and 1 Tandem Passenger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80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468000" y="1557000"/>
            <a:ext cx="821844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Increased use of AA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Round Main Canopies being used les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Big movement towards Tandem jumping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 u="sng">
                <a:solidFill>
                  <a:srgbClr val="ffffff"/>
                </a:solidFill>
                <a:uFillTx/>
                <a:latin typeface="Arial"/>
              </a:rPr>
              <a:t>DISTRIBUTION OF REPORT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This report, along with 2003 AAD Report, and Power Point presentations for both reports, has been sent by e-mail to all respondents and to all other countries for which we have e-mail addresses. 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CDs with the reports and presentations are available to IPC delegates and to those who request copies. delegates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e5e5ff"/>
                </a:solidFill>
                <a:latin typeface="Arial"/>
              </a:rPr>
              <a:t>Some Continuing Trend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e5e5ff"/>
                </a:solidFill>
                <a:latin typeface="Arial"/>
              </a:rPr>
              <a:t>Blue Skies – or Grey Concrete!!!</a:t>
            </a:r>
            <a:br>
              <a:rPr sz="3600"/>
            </a:br>
            <a:r>
              <a:rPr b="1" lang="en-IE" sz="1600" spc="-1" strike="noStrike">
                <a:solidFill>
                  <a:srgbClr val="e5e5ff"/>
                </a:solidFill>
                <a:latin typeface="Arial"/>
              </a:rPr>
              <a:t>Thanks to Rix at Skydive Zimbabwe for permission to use this photograph.</a:t>
            </a:r>
            <a:endParaRPr b="1" lang="en-US" sz="16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11280" y="1557360"/>
            <a:ext cx="792144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iam</cp:lastModifiedBy>
  <dcterms:modified xsi:type="dcterms:W3CDTF">2005-01-15T11:01:13Z</dcterms:modified>
  <cp:revision>20</cp:revision>
  <dc:subject/>
  <dc:title>SAFETY &amp; TRAINING FORUM 25 January 2003</dc:title>
</cp:coreProperties>
</file>