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7550-B309-4039-AF1E-EA6E81C47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4FC3-9033-4AE5-8D55-5CECEF93C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E16A-8492-4721-A48D-987148C6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C570-7D7D-4294-84D1-10693527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28D5-3232-48AE-9D39-C1BE3D9CE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2F72-474B-4A87-B9BC-59B20322E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0E4B-8B16-4AB7-BE6A-815A98B6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06CB-6152-4B00-B092-01F77D36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E639-41A6-4A98-AC1C-2145E4F2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6B83-3BB4-4146-B7CD-F4AA279E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ADD6-B677-4CED-8367-112CFCA5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4E9A-B042-47B4-BD89-57B47DFB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0604-0237-437A-A196-882AA2B5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A798-4F0E-4ADF-B063-859B30D3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FDA6-EB19-44E6-8ED0-25415DF3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CCC2-4C58-4D58-8D57-80A13D9E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ABFC-9F3A-4979-BA9A-60C69A8C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0F94-2333-40D6-8618-1744E5BA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260C-18C7-4C16-B624-92E05806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3E9E2-5C7B-4DD4-9183-1B3EFF963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556B8-B82D-4483-BE36-26854EE7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78310-042D-42EE-93AA-D1AD8A7E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0003F-7FA6-47A6-8C74-3889DF8D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E6740-2BA4-4888-AC9F-39361869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8DAC-F43B-401A-A0D7-20F48717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11D6F-9C1E-4E19-94D0-D194DF45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BAB91-CD4D-46AA-B43A-585BC849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09A0D-714B-452D-954B-655E7AC6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7DBEE-B3FA-4506-978C-89B106CE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079D4-02F3-413E-AC32-4264812F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700BC-CE1E-4E38-AE1E-CE4F24466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0500D-6AC0-49BF-86D1-AF54D5886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74995-1E08-4BC0-A84E-EEABC492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084D1-323E-45B2-BE0B-24D862A0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0EAD7-8FCA-4A4B-81A3-04EEBAE9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B9D0-ACE4-4FEA-B036-251026F7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22336-3DB7-4B99-925D-08105C9D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E3D34-E0EE-4F6C-AA1A-397A02BB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EFCAA-25D5-467A-81FA-D40BD0C7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7665E-B4B7-410B-92ED-4A9F1E34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AE657-AE01-4B55-B170-1F83A8AF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8CEBE-6F0B-4F5E-B00B-375596DB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4A0E6-60AC-43A0-B57D-7F0E62D4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ABAA9-D70C-499E-BF6A-C6F850CDD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D5E7F-D742-440F-A1D3-08B492FAA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6282-F70D-4893-9DB6-4503C21F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FE2E-BC28-4ED6-A275-CB2E6AF7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A45D-EA57-4C01-96C6-C3D5FC1D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9B39-5CA1-4C02-8A27-CBF0F793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76FA-1DE4-402F-A912-F43E64F1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AF9C-5E46-48ED-BA11-D72A3D270D2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551A-EE95-4A24-B1E0-9C50ED03019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8FD5-240E-408B-B6FA-6C7CBA510F5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6FBD-0761-4D6E-8530-548BE5D1792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Form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Notes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3) issued in 2015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4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5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7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4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237,725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14,867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hree Tandem fatalities in 2014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01,20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42,415 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(1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2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1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2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2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6983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 bridle entanglement with camer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lmet after unstable reserve activat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ow radical turn, high impact with water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using lung damage and death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stability, no Main deployment, AAD activate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, freebag caught on jumper, insuffici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ight for reserve deployment, reserve lin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rapped under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jumper’s arm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1   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25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6 - 19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s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nd Canopy Collision – each a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4 – 13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3 – 10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39% of total fatalities, 3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0 (65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1 (35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6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3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4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39% of 3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640"/>
            <a:ext cx="8229600" cy="33415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75,020 Solo jumps – 1,162,7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3 ; Solo Fatalities 28 (3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6-01-14T20:42:49Z</dcterms:modified>
  <cp:revision>105</cp:revision>
  <dc:subject/>
  <dc:title>SAFETY &amp; TRAINING FORUM 25 January 2003</dc:title>
</cp:coreProperties>
</file>