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5C3A2-A852-4ECE-9986-EBC3B4034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0479-DB03-45E9-B9BA-D885F274E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725B-3115-455C-A023-B4D500BF4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7A70-DEDB-44B0-836E-562E544DF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EFBB-95A4-4523-9E5C-2029A481F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CDAC7-24AD-4D9C-87E6-BEE520FD3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C5A5E-1863-404A-AE79-6B8450334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9D70E-860A-49CC-8C36-CED6D0514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6D221-9F15-489F-9F16-6BFAE8139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176CF-1BA2-4D28-9CDE-E10CAC245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AD1BC-44DB-46E9-B645-1C739C24B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624B9-6B7E-4F5A-BDF2-D6913F42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832C-2E1F-4C64-A322-03AF3E3C9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83551-3FBC-4BAE-843D-C9B59776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17807-3962-4A89-B091-E1BBA52B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053C5-CCC3-449B-A456-8A8379D1C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AF3AE-8AE8-4118-8545-22F2E32B9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65222-AED5-4F03-9D45-5478150F8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CF6F-9CE7-4A1B-A857-46270B336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523C-272B-4007-A7F7-A5C889654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7605-A31C-4960-89C8-B00E8BF73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A12F-42E0-489C-ACFC-76E3E7C82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3C0E-8AB6-481C-B993-8E2CAAC0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F396-0972-4FEE-9245-A9E7E39F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6043-12E9-4608-A1F3-4F1067A6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0C657-E88C-4EC3-95DD-7BA6C36B5C1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678CD-E67C-4FD4-8273-4E092214BCC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4.jpe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59054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08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4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770,169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18,436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70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82,43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3,121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70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8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3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9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9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56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58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2920" y="1915920"/>
            <a:ext cx="7423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Main/Reserve Entanglement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Equipment issues/problem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Hard Openings –  1 dead on landing, 1 ruptured aorta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Low Canopy Collision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ut of sequence Reserve Deployment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2"/>
          <a:stretch/>
        </p:blipFill>
        <p:spPr>
          <a:xfrm>
            <a:off x="7093080" y="765000"/>
            <a:ext cx="1511280" cy="9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618920" y="2349000"/>
            <a:ext cx="59770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17 – 24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11 – 16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Medical Issues   8 – 11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000" y="1918800"/>
            <a:ext cx="800244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8 of the 70 fatalities (69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5 of the 70 fatalities (50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70 fatalities (14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7 of the 70 fatalities (67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8  (11.4%)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of the 70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6  (  8.6%) of the 70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4167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, 35 – 50%, resulting from canopy handling and landing issues – a continuing concer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talities from Medical Issues, minimum 8 – 11.4%.  See Medical Requirements Survey Report by T&amp;S Committee and Elisabet Pettersson presentation –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Medical and Disability Considerations in Skydiv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2.1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9.6% in 2007; 12.2% in 2006; 10.4% in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073,891 Solo jumps – 696,278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  4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6 (8.6%)       Solo Fatalities 64 (91.4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08 AAD Report, and Power Point presentations for both reports, has been sent by e-mail to all respondents and to all other countries for which we have e-mail addresses.  CDs are available to IPC Delegates and to those 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9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9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9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6) issued in 2009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Medical Requirements Survey Re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200" spc="-1" strike="noStrike">
                <a:solidFill>
                  <a:srgbClr val="ffffff"/>
                </a:solidFill>
                <a:latin typeface="Arial"/>
              </a:rPr>
              <a:t>Medical &amp; Disability Considerations in Parachuting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 – Presentation by Ms Elisabet Petterss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08 are requested to make a special effort to do so for 2009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020000" y="765000"/>
            <a:ext cx="1328760" cy="7700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10-01-21T12:56:55Z</dcterms:modified>
  <cp:revision>62</cp:revision>
  <dc:subject/>
  <dc:title>SAFETY &amp; TRAINING FORUM 25 January 2003</dc:title>
</cp:coreProperties>
</file>