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B35C1-70DC-4B77-8BC1-4692F1305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4CE7-4B0D-4845-B3BD-CCD5B8994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BCEC-9A25-41CB-8959-E82378DFA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D167-7AF7-4C4F-92AF-1851B76B7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519A-5435-435A-8444-DB16E78A1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4ABB42-FF21-4CCF-BD66-7BA161A3A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F0F154-D9EE-44E7-ADED-F65B8489A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CE86C6-94B4-4A40-BF0C-839E00322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B700EF-947F-4A65-8786-99784C1EF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BB03F6-15E5-4C69-97B3-26561383C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401988-995E-4558-92DF-88629F0B8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AE64B1-375A-4F9D-944D-FCAC9BEB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69E5-8523-405E-96DC-A561E4AB1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EDF1D2-6ACF-42E0-8991-3BD04436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686D29-1514-43FC-BCF7-A29AF43B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8DE41B-8790-46ED-81B9-9E1CF9525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780A70-F88E-44F9-A556-B46DBC399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B17861-D43D-4851-9C0F-1EC437F84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AE25-20EB-4BF3-BBD9-0234F3E5C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2608-B6EC-4A3F-9191-BB070A71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FC6B-69FA-41A0-B71E-1549DA5F3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9623-9856-41F4-B8AE-3F1D034D7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6243-04AE-4B3D-B8C1-56CAD5EA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F84C-B0DD-436F-874F-B78DA2AE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768C-2C35-4C72-B998-A7ADECF5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B2167-E88A-4A22-B6E5-6FBA125D4E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10F0E-65A2-41BB-ABA2-036555E9A0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TECHNICAL &amp; SAFETY COMMITTE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559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2002 Safety Repor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 33 responding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3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5,769,010 skydives were made b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357,155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9,028 jum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,893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400" spc="-1" strike="noStrike">
                <a:solidFill>
                  <a:srgbClr val="ffffff"/>
                </a:solidFill>
                <a:latin typeface="Arial"/>
              </a:rPr>
              <a:t>73 Fataliti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5 Studen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29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0-25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4 Interm.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25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44 Exper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46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Cutaway/No or low reserve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    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    5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Other ‘ Fatalities (55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8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Other Landing Error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Canopy Collisio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Jumper walking into Propellor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Jumpers striking aircraft in air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Aircraft crash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Unknow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Fatalities – Largest Group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36640"/>
            <a:ext cx="82296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3%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9% Other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% No or Low Activation of Main 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ffffff"/>
                </a:solidFill>
                <a:latin typeface="Arial"/>
              </a:rPr>
              <a:t>Some Significant Figur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94% of 65 fatalities (8 were discount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60% of 65 fatalities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3% of fatalities might have been avoided by AAD u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90% of fatalities would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8 of the 73 Fatalities were First Jump Stud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creased use of A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Big movement towards Tandem jump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DISTRIBUTION OF REP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Report, along with 2002 AAD Report, has been sent by e-mail to all respondents and to all other countries for which we have e-mail addresses.  Hard copies and CDs are now available for delega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Some Tren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4-12-21T22:32:57Z</dcterms:modified>
  <cp:revision>14</cp:revision>
  <dc:subject/>
  <dc:title>SAFETY &amp; TRAINING FORUM 25 January 2003</dc:title>
</cp:coreProperties>
</file>